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4E7F9-10CE-48E5-891A-6844A1A70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AF56F-F915-416A-9C21-5E4B8F9A1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5A02F-506E-4934-BF5A-D098FEF3A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E2AC8-E4EA-47A8-803C-B164187A3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9E07C-EAF4-4AC8-A9DF-06323F2E0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D342D-CC2A-4C8D-B213-83F834B7A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E9E64-1B68-491A-82AA-E79ED44E2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3BE30-5ADC-4C49-A158-6B49535F3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FA21C-7C59-4F23-BE3F-BD27C9DE6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86BF0-CA8E-4C64-B0E0-5087E0F35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B3238-38B5-4B5A-B45B-CB245B281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B9B2-D48B-4D2F-A5C3-4C7E56C40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9ECD-FF30-422F-8759-791F49588F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tess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obby Wh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spent 1 week getting ready for testing and about a day test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men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thank all my testers, Mrs. Calderwood, and Mrs. Riffe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8th grade boys and girls tell the difference between Kroger Nacho Cheese, and Dori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8th grade boys tell the difference between Kroger Nacho Cheese, and Dori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ritos have been around since he 60’s and have had more than 50 different flavors. Most of their flavors though, were discontinued like sour cream and ranch. They have recently brought back their most famous chip, and also the first, Taco flavor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that it will be very hard for them to tell the difference because they taste almost the sa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ndfo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feed them their chips and ask them which one they think it 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ould mostly taste the difference but some had a little bit of trou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is easy to tell the difference between the two chips. My hypothesis was wro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4:31:28Z</dcterms:created>
  <dc:creator>USD376</dc:creator>
  <dc:description/>
  <dc:language>en-US</dc:language>
  <cp:lastModifiedBy>USD376</cp:lastModifiedBy>
  <dcterms:modified xsi:type="dcterms:W3CDTF">2012-03-08T14:40:14Z</dcterms:modified>
  <cp:revision>1</cp:revision>
  <dc:subject/>
  <dc:title>Tastesss</dc:title>
</cp:coreProperties>
</file>